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B263-A311-451C-AB59-8AEBECEA4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9C3D-8519-4142-BF87-079BD4FB5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21BD-9A8C-464C-A1CB-231E8E90D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6C3A-20E1-41E5-B7CD-EE02AA2A1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EF99-C1C0-4AD3-8E69-5C8C7B090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C5D9-5510-4669-B8C8-6721CBF1C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FD95-859B-4560-A45E-0FC9D15AB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22B1-8457-46A4-A19E-799CE7858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7E0E-51C4-49CD-B262-DD2EE7697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E4B8-DDD8-4D3C-B12D-C354932C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A62D-C6CC-4F42-88B5-C2A85B1E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8CC8-6D02-4656-949B-9D0CFF97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86F3D-5B2E-4449-AF5B-CB374E309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ing Presi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rge Washing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the father of our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 was th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Presi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 had white 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loved m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09880" y="4675320"/>
            <a:ext cx="3276720" cy="21826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062840" y="3736800"/>
            <a:ext cx="2081160" cy="3121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334120" y="3733920"/>
            <a:ext cx="1726920" cy="923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1981080" y="4114800"/>
            <a:ext cx="1822680" cy="2743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6397560" y="2209680"/>
            <a:ext cx="274644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16:34:51Z</dcterms:created>
  <dc:creator>smuser</dc:creator>
  <dc:description/>
  <dc:language>en-US</dc:language>
  <cp:lastModifiedBy>smuser</cp:lastModifiedBy>
  <dcterms:modified xsi:type="dcterms:W3CDTF">2010-02-04T18:50:13Z</dcterms:modified>
  <cp:revision>3</cp:revision>
  <dc:subject/>
  <dc:title>Comparing Presidents</dc:title>
</cp:coreProperties>
</file>